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AD847-AD2B-4028-A2DE-2C33570A6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F4FE4-9571-400F-8202-AB61E612A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D627C-15E3-4276-930A-22818BDBF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A3A36-16FD-43A0-9047-3A1DB40EC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DFF5F-66B0-4222-90A7-34B896B13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F8039-8B45-4427-8A64-4DA974669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F0611-15A0-429B-A4FD-3E9C07C20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9B512-D2EF-4EBD-AA83-0B6FA3027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8BD2A-B9A3-4535-AC6B-F9EB0C024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231C7-5692-4302-B229-F221B4349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A82D5-A053-4B25-9ECF-34164A046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30032-DCF9-4996-9D96-464E7A45B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EF70F-76DC-4293-9A23-29CC03BDB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1D42E-7B4C-4A95-B62E-C623F4C68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BE55C-8AF5-4379-903A-D18E9E5A9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7534B-D550-4D45-A000-C3F36C1A5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7BB03-4701-4AF8-ACD6-AC90CBB7C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50D59B-A935-4889-A6C8-F145DE22B9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439DA1-4FC6-40E8-864B-8A396E4F0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E21F8-6674-4A97-92DF-76F5BE5942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02C338-7941-4BB4-ABE8-BE3C1F3C82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21103-3106-4145-B63F-A2F59F9B6F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C4D7B-0571-4FF7-B13B-73B85D5A6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8F6F1-E9B5-4EEE-9CFE-19C8E96D36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696E9-F435-4C9C-B1D1-967DD1B90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345A8-A8E3-46ED-A693-9AEA4C907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B4C64-D0D0-4137-AD68-BCD64A1B3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E5B45-C451-47B8-A7CF-CDD9781299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0A54C8-8059-41B1-AED4-4070516D24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4FEA72-BBBD-4AF5-A726-A0743E960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C5EFC-4D9C-48A4-8AF3-99B25BB5F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A1F97-0FBD-4F9B-9210-CCA8CC4FB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D670A-6BA3-4FB5-B167-387406F8F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2036-4FC6-431D-9875-31EAA18CD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F5B7-3177-4B3A-8754-1B185D086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D22D3-403D-49EE-A7E0-A7CC067D6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AD39-8EF2-4755-B54D-237A71B54575}" type="datetime">
              <a:rPr b="0" lang="de-CH" sz="1200" spc="-1" strike="noStrike">
                <a:solidFill>
                  <a:srgbClr val="898989"/>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39D1-5894-417C-BF72-1C8F8A1B69EA}"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E96B-B116-4696-8927-534ED167F897}" type="datetime">
              <a:rPr b="0" lang="de-DE" sz="1200" spc="-1" strike="noStrike">
                <a:solidFill>
                  <a:srgbClr val="898989"/>
                </a:solidFill>
                <a:latin typeface="Arial"/>
              </a:rPr>
              <a:t>30.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981F-6BC2-41A8-A396-CD37EFBB9AB9}"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7D8C-C10F-40EA-908F-AE4B7FC1A881}" type="datetime">
              <a:rPr b="0" lang="de-DE" sz="1200" spc="-1" strike="noStrike">
                <a:solidFill>
                  <a:srgbClr val="898989"/>
                </a:solidFill>
                <a:latin typeface="Arial"/>
              </a:rPr>
              <a:t>30.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4302-1AFB-48D6-AE9B-0A16F3BC26D5}" type="slidenum">
              <a:rPr b="0" lang="de-CH"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aniel.bueche@kssg.ch" TargetMode="External"/><Relationship Id="rId2" Type="http://schemas.openxmlformats.org/officeDocument/2006/relationships/hyperlink" Target="mailto:daniel.bueche@kssg.ch"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autorisation.narco@swissmedic.ch" TargetMode="External"/><Relationship Id="rId2" Type="http://schemas.openxmlformats.org/officeDocument/2006/relationships/hyperlink" Target="http://www.swissmedic.ch/"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6000" spc="-1" strike="noStrike">
                <a:solidFill>
                  <a:srgbClr val="000000"/>
                </a:solidFill>
                <a:latin typeface="Arial"/>
              </a:rPr>
              <a:t>Palliative Care und </a:t>
            </a:r>
            <a:br>
              <a:rPr sz="6000"/>
            </a:br>
            <a:r>
              <a:rPr b="1" lang="de-CH" sz="6000" spc="-1" strike="noStrike">
                <a:solidFill>
                  <a:srgbClr val="000000"/>
                </a:solidFill>
                <a:latin typeface="Arial"/>
              </a:rPr>
              <a:t>Recht</a:t>
            </a:r>
            <a:endParaRPr b="0" lang="en-US" sz="6000" spc="-1" strike="noStrike">
              <a:solidFill>
                <a:srgbClr val="000000"/>
              </a:solidFill>
              <a:latin typeface="Arial"/>
            </a:endParaRPr>
          </a:p>
        </p:txBody>
      </p:sp>
      <p:sp>
        <p:nvSpPr>
          <p:cNvPr id="124" name="PlaceHolder 2"/>
          <p:cNvSpPr>
            <a:spLocks noGrp="1"/>
          </p:cNvSpPr>
          <p:nvPr>
            <p:ph type="subTitle"/>
          </p:nvPr>
        </p:nvSpPr>
        <p:spPr>
          <a:xfrm>
            <a:off x="1371600" y="4642920"/>
            <a:ext cx="6400800" cy="995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u="sng">
                <a:solidFill>
                  <a:srgbClr val="0f6fc6"/>
                </a:solidFill>
                <a:uFillTx/>
                <a:latin typeface="Arial"/>
                <a:hlinkClick r:id="rId1"/>
              </a:rPr>
              <a:t>daniel.bueche@</a:t>
            </a:r>
            <a:r>
              <a:rPr b="0" lang="de-CH" sz="3200" spc="-1" strike="noStrike" u="sng">
                <a:solidFill>
                  <a:srgbClr val="0f6fc6"/>
                </a:solidFill>
                <a:uFillTx/>
                <a:latin typeface="Arial"/>
                <a:hlinkClick r:id="rId2"/>
              </a:rPr>
              <a:t>kssg.c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898989"/>
                </a:solidFill>
                <a:latin typeface="Arial"/>
              </a:rPr>
              <a:t>Basiskurs Palliative Care OR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PATIENTENVERFÜGUNG</a:t>
            </a:r>
            <a:endParaRPr b="0" lang="en-US" sz="4000" spc="-1" strike="noStrike">
              <a:solidFill>
                <a:srgbClr val="000000"/>
              </a:solidFill>
              <a:latin typeface="Arial"/>
            </a:endParaRPr>
          </a:p>
        </p:txBody>
      </p:sp>
      <p:sp>
        <p:nvSpPr>
          <p:cNvPr id="14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atientenverfügung</a:t>
            </a:r>
            <a:endParaRPr b="0" lang="en-US"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mäss Art. 370 ff ZGB:</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ann eine urteilsfähige Person in einer Patientenverfügung festlegen, welchen medizinischen Massnahmen sie im Fall Ihrer Urteilsunfähigkeit zustimmt oder nicht (370.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V ist schriftlich zu errichten, zu datieren und zu unterschreib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die Patientin oder der Patient urteilsunfähig und ist nicht bekannt, ob eine PV vorliegt, so klärt der behandelnde Arzt dies anhand der Versichertenkarte ab. Vorbehalten bleiben dringliche Fä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atientenverfügung</a:t>
            </a:r>
            <a:endParaRPr b="0" lang="en-US"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mäss Art. 370 ff ZGB:</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Ärztin... Entspricht der PV, ausser wenn diese </a:t>
            </a:r>
            <a:br>
              <a:rPr sz="2800"/>
            </a:br>
            <a:r>
              <a:rPr b="0" lang="de-DE" sz="2800" spc="-1" strike="noStrike">
                <a:solidFill>
                  <a:srgbClr val="000000"/>
                </a:solidFill>
                <a:latin typeface="Arial"/>
              </a:rPr>
              <a:t>gegen gesetzliche Vorschriften verstösst oder wenn begründete Zweifel bestehen, das sie auf freiem Willen beruht oder</a:t>
            </a:r>
            <a:br>
              <a:rPr sz="2800"/>
            </a:br>
            <a:r>
              <a:rPr b="0" lang="de-DE" sz="2800" spc="-1" strike="noStrike">
                <a:solidFill>
                  <a:srgbClr val="000000"/>
                </a:solidFill>
                <a:latin typeface="Arial"/>
              </a:rPr>
              <a:t>noch dem mutmasslichen Willen der Patientin entspricht. </a:t>
            </a:r>
            <a:br>
              <a:rPr sz="2800"/>
            </a:br>
            <a:r>
              <a:rPr b="0" lang="de-DE" sz="2800" spc="-1" strike="noStrike">
                <a:solidFill>
                  <a:srgbClr val="000000"/>
                </a:solidFill>
                <a:latin typeface="Arial"/>
              </a:rPr>
              <a:t>Die Ärztin hält im Patientendossier fest, aus welchen Gründen der PV nicht entsprochen wi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atientenverfügung</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mäss Art. 370 ff ZGB:</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Jede der Patientin... nahestehende Person kann schriftlich die KES anrufen und geltend machen, das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PV nicht entsprochen wur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Interessen der urteilsunfähigen Person gefährdet oder nicht mehr gewahrt sind</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V nicht auf freiem Willen beruht</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tretung der urteilsunfähigen Person bei medizinischen Massnahmen</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regelt unter Art 378.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atientenverfügung</a:t>
            </a:r>
            <a:endParaRPr b="0" lang="en-US" sz="44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mäss Art. 370 ff ZG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Ärztin... Informiert die vertretungsbe-rechtigte Person über alle Umstände, die im Hinblick auf die vorgesehene mdeizinische Massnahmen wesentlich si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ES errichtet eine Vertretungsbeistandschaft, wenn keine vertretungsberechtigte Person vorhanden ist oder das Vertretungsrecht ausüben w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VORSORGEAUFTRAG</a:t>
            </a:r>
            <a:endParaRPr b="0" lang="en-US" sz="4000" spc="-1" strike="noStrike">
              <a:solidFill>
                <a:srgbClr val="000000"/>
              </a:solidFill>
              <a:latin typeface="Arial"/>
            </a:endParaRPr>
          </a:p>
        </p:txBody>
      </p:sp>
      <p:sp>
        <p:nvSpPr>
          <p:cNvPr id="1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Vorsorgeauftrag</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mäss Art. 360 ff. ZGB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handlungsfähige Person kann eine natürliche oder juristische Person beauftragen, im Fall ihrer Urteilsunfähigkeit die </a:t>
            </a:r>
            <a:r>
              <a:rPr b="1" lang="de-DE" sz="2000" spc="-1" strike="noStrike">
                <a:solidFill>
                  <a:srgbClr val="000000"/>
                </a:solidFill>
                <a:latin typeface="Arial"/>
              </a:rPr>
              <a:t>Personensorge</a:t>
            </a:r>
            <a:r>
              <a:rPr b="0" lang="de-DE" sz="2000" spc="-1" strike="noStrike">
                <a:solidFill>
                  <a:srgbClr val="000000"/>
                </a:solidFill>
                <a:latin typeface="Arial"/>
              </a:rPr>
              <a:t> oder die Vermögenssorge zu übernehmen oder sie im Rechtsverkehr zu vertret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muss die Aufgaben, die sie der beauftragten Person übertragen will, umschreiben und kann Weisungen für die Erfüllung der Aufgaben erteil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kann für den Fall, dass die beauftragte Person für die Aufgaben nicht geeignet ist, den Auftrag nicht annimmt oder ihn kündigt, Ersatzverfügungen treffen</a:t>
            </a:r>
            <a:r>
              <a:rPr b="1" lang="de-DE"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Vorsorgeauftrag</a:t>
            </a: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mäss Art. 360 ff. ZGB </a:t>
            </a:r>
            <a:endParaRPr b="0" lang="en-US" sz="32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Vorsorgeauftrag ist eigenhändig zu errichten oder öffentlich zu beurkunden.</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eigenhändige Vorsorgeauftrag ist von der auftraggebenden Person von Anfang bis Ende </a:t>
            </a:r>
            <a:r>
              <a:rPr b="1" lang="de-DE" sz="2400" spc="-1" strike="noStrike">
                <a:solidFill>
                  <a:srgbClr val="000000"/>
                </a:solidFill>
                <a:latin typeface="Arial"/>
              </a:rPr>
              <a:t>von Hand niederzuschreiben</a:t>
            </a:r>
            <a:r>
              <a:rPr b="0" lang="de-DE" sz="2400" spc="-1" strike="noStrike">
                <a:solidFill>
                  <a:srgbClr val="000000"/>
                </a:solidFill>
                <a:latin typeface="Arial"/>
              </a:rPr>
              <a:t>, zu datieren und zu unterzeichnen.</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Zivilstandsamt trägt auf Antrag die Tatsache, dass eine Person einen Vorsorgeauftrag errichtet hat, und den Hinterlegungsort in die zentrale Datenbank ein. Der Bundesrat erlässt die nötigen Bestimmungen, namentlich über den Zugang zu den Da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ETREUUNGSVERTRAG</a:t>
            </a:r>
            <a:endParaRPr b="0" lang="en-US" sz="4000" spc="-1" strike="noStrike">
              <a:solidFill>
                <a:srgbClr val="000000"/>
              </a:solidFill>
              <a:latin typeface="Arial"/>
            </a:endParaRPr>
          </a:p>
        </p:txBody>
      </p:sp>
      <p:sp>
        <p:nvSpPr>
          <p:cNvPr id="15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Betreuungsvertrag</a:t>
            </a:r>
            <a:endParaRPr b="0" lang="en-US"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mäss Art 382</a:t>
            </a:r>
            <a:endParaRPr b="0" lang="en-US" sz="3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rd eine urteilsunfähige Person für längere Dauer in einer Wohn oder Pfelgeeinrichtung betreut, so muss schriftlich in einem Betreuungsvertrag festgelegt werden, welche Leistungen die Einrichtung erbringt und welches Entgelt dafür geschuldet is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Festlegung der von der Einrichtung zu erbringenden Leistungen werden die Wünsche der betroffenen Person so weit wie möglich berücksichtig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ändigkeit für die Vertretung der urteilsunfähigen Person beim Abschluss, bei der Änderung oder bei der Aufhebung des Betreuungsvertrags richtet sich sinngemäss nach den Bestimmungen über die Vertretung bei medizinischen Massnah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800" spc="-1" strike="noStrike">
                <a:solidFill>
                  <a:srgbClr val="000000"/>
                </a:solidFill>
                <a:latin typeface="Arial"/>
              </a:rPr>
              <a:t>STERBEHILFE</a:t>
            </a:r>
            <a:endParaRPr b="0" lang="en-US" sz="4800" spc="-1" strike="noStrike">
              <a:solidFill>
                <a:srgbClr val="000000"/>
              </a:solidFill>
              <a:latin typeface="Arial"/>
            </a:endParaRPr>
          </a:p>
        </p:txBody>
      </p:sp>
      <p:sp>
        <p:nvSpPr>
          <p:cNvPr id="12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Sterbehilfe</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Direkte aktive Sterbehilf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Gezielte Tötung zur Verkürzung der Leiden eines anderen Menschen. Der Arzt oder ein Dritter verabreicht dem Patienten absichtlich eine Spritze, die zum Tod führ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800" spc="-1" strike="noStrike">
                <a:solidFill>
                  <a:srgbClr val="000000"/>
                </a:solidFill>
                <a:latin typeface="Arial"/>
              </a:rPr>
              <a:t>Gemäss StGB:</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 </a:t>
            </a:r>
            <a:r>
              <a:rPr b="0" i="1" lang="de-CH" sz="2400" spc="-1" strike="noStrike">
                <a:solidFill>
                  <a:srgbClr val="000000"/>
                </a:solidFill>
                <a:latin typeface="Arial"/>
              </a:rPr>
              <a:t>Art 111 (vorsätzliche Tötung)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rt 114 (Tötung auf Verlangen)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rt 113 (Totschlag)</a:t>
            </a:r>
            <a:endParaRPr b="0" lang="en-US" sz="24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800" spc="-1" strike="noStrike">
                <a:solidFill>
                  <a:srgbClr val="000000"/>
                </a:solidFill>
                <a:latin typeface="Arial"/>
              </a:rPr>
              <a:t>	</a:t>
            </a:r>
            <a:r>
              <a:rPr b="0" i="1" lang="de-CH" sz="2800" spc="-1" strike="noStrike">
                <a:solidFill>
                  <a:srgbClr val="000000"/>
                </a:solidFill>
                <a:latin typeface="Arial"/>
              </a:rPr>
              <a:t>ist diese Form der Sterbehilfe strafb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Sterbehilfe</a:t>
            </a:r>
            <a:endParaRPr b="0" lang="en-US" sz="36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Indirekte aktive Sterbehilf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Zur Linderung </a:t>
            </a:r>
            <a:r>
              <a:rPr b="0" i="1" lang="de-CH" sz="2800" spc="-1" strike="noStrike">
                <a:solidFill>
                  <a:srgbClr val="000000"/>
                </a:solidFill>
                <a:latin typeface="Arial"/>
              </a:rPr>
              <a:t>v</a:t>
            </a:r>
            <a:r>
              <a:rPr b="0" lang="de-CH" sz="2800" spc="-1" strike="noStrike">
                <a:solidFill>
                  <a:srgbClr val="000000"/>
                </a:solidFill>
                <a:latin typeface="Arial"/>
              </a:rPr>
              <a:t>on Leiden werden Mittel (z.B. Opioide) eingesetzt, die als Nebenwirkung die Lebensdauer verkürzen können. Der möglicherweise früher einsetzende Tod wird in Kauf genomm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800" spc="-1" strike="noStrike">
                <a:solidFill>
                  <a:srgbClr val="000000"/>
                </a:solidFill>
                <a:latin typeface="Arial"/>
              </a:rPr>
              <a:t>Im StGB ist diese Art von Sterbehilfe nicht ausdrücklich geregel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800" spc="-1" strike="noStrike">
                <a:solidFill>
                  <a:srgbClr val="000000"/>
                </a:solidFill>
                <a:latin typeface="Arial"/>
              </a:rPr>
              <a:t>Die SAMW betrachtet diese Form von Sterbehilfe als zulässig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Arial"/>
              </a:rPr>
              <a:t>Sterbehilfe</a:t>
            </a:r>
            <a:endParaRPr b="0" lang="en-US"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Passive Sterbehil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Verzicht auf die Aufnahme oder den Abbruch von Lebenserhaltenden Massnah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800" spc="-1" strike="noStrike">
                <a:solidFill>
                  <a:srgbClr val="000000"/>
                </a:solidFill>
                <a:latin typeface="Arial"/>
              </a:rPr>
              <a:t>Im StGB ist diese Art von Sterbehilfe nicht ausdrücklich geregel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800" spc="-1" strike="noStrike">
                <a:solidFill>
                  <a:srgbClr val="000000"/>
                </a:solidFill>
                <a:latin typeface="Arial"/>
              </a:rPr>
              <a:t>Die SAMW betrachtet diese Form von Sterbehilfe als zulässi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Arial"/>
              </a:rPr>
              <a:t>Sterbehilfe</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000" spc="-1" strike="noStrike">
                <a:solidFill>
                  <a:srgbClr val="000000"/>
                </a:solidFill>
                <a:latin typeface="Arial"/>
              </a:rPr>
              <a:t>Beihilfe zu Suizid</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600" spc="-1" strike="noStrike">
                <a:solidFill>
                  <a:srgbClr val="000000"/>
                </a:solidFill>
                <a:latin typeface="Arial"/>
              </a:rPr>
              <a:t>Bei der Suizidbeihilfe geht es darum, dem Patienten die tödliche Substanz zu vermitteln, die der Suizidwillige ohne Fremdeinwirkung selber einnimm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600" spc="-1" strike="noStrike">
                <a:solidFill>
                  <a:srgbClr val="000000"/>
                </a:solidFill>
                <a:latin typeface="Arial"/>
              </a:rPr>
              <a:t>Gemäss StGB Art 115 wird jemand bestraft, der aus selbstsüchtigen Beweggründen jemandem zum Suizid Hilfe leiste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600" spc="-1" strike="noStrike">
                <a:solidFill>
                  <a:srgbClr val="000000"/>
                </a:solidFill>
                <a:latin typeface="Arial"/>
              </a:rPr>
              <a:t>Nach den SAMW-Richtlinien ist die Beihilfe zum Suizid kein Teil der ärztlichen Tätigkei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600" spc="-1" strike="noStrike">
                <a:solidFill>
                  <a:srgbClr val="000000"/>
                </a:solidFill>
                <a:latin typeface="Arial"/>
              </a:rPr>
              <a:t>Organisationen wie EXIT und Dignitas nützen diesen Artikel a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800" spc="-1" strike="noStrike">
                <a:solidFill>
                  <a:srgbClr val="000000"/>
                </a:solidFill>
                <a:latin typeface="Arial"/>
              </a:rPr>
              <a:t>BETÄUBUNGSMITTEL</a:t>
            </a:r>
            <a:endParaRPr b="0" lang="en-US" sz="4800" spc="-1" strike="noStrike">
              <a:solidFill>
                <a:srgbClr val="000000"/>
              </a:solidFill>
              <a:latin typeface="Arial"/>
            </a:endParaRPr>
          </a:p>
        </p:txBody>
      </p:sp>
      <p:sp>
        <p:nvSpPr>
          <p:cNvPr id="13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Mitführen von Betäubungsmitteln</a:t>
            </a:r>
            <a:endParaRPr b="0" lang="en-US" sz="4000" spc="-1" strike="noStrike">
              <a:solidFill>
                <a:srgbClr val="000000"/>
              </a:solidFill>
              <a:latin typeface="Arial"/>
            </a:endParaRPr>
          </a:p>
        </p:txBody>
      </p:sp>
      <p:sp>
        <p:nvSpPr>
          <p:cNvPr id="138" name=""/>
          <p:cNvSpPr txBox="1"/>
          <p:nvPr/>
        </p:nvSpPr>
        <p:spPr>
          <a:xfrm>
            <a:off x="457200" y="1143000"/>
            <a:ext cx="8229600" cy="49831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Reisen in Schengen-Mitgliedstaate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Substanzen: Opioide, Amphetamine, Benzodiazepine</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Spezielle Bescheinigung</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Von Apotheke beglaubigen lassen</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Maximale Menge (für 30 Tage)</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Reisen in andere Länder</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u="sng">
                <a:solidFill>
                  <a:srgbClr val="0f6fc6"/>
                </a:solidFill>
                <a:uFillTx/>
                <a:latin typeface="Arial"/>
                <a:hlinkClick r:id="rId1"/>
              </a:rPr>
              <a:t>autorisation.narco@swissmedic.ch</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u="sng">
                <a:solidFill>
                  <a:srgbClr val="0f6fc6"/>
                </a:solidFill>
                <a:uFillTx/>
                <a:latin typeface="Arial"/>
                <a:hlinkClick r:id="rId2"/>
              </a:rPr>
              <a:t>www.swissmedic.ch</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Kranke Reisende oder Tel 031 324 91 8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Fahrtauglichkeit unter Opioiden</a:t>
            </a:r>
            <a:endParaRPr b="0" lang="en-US"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Untersucht v.a. Fentanyl und Morph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Unter Medikamenten gleiche Fahrtüchtigkei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Patient muss sich fahrtüchtig füh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tabil eingestelltes Opio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Pharmakodynamische Interaktionen be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Prinzipiell braucht es kein Arztzeugnis, dieses kann aber Sinn ma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1T07:53:12Z</dcterms:created>
  <dc:creator>Bueche Daniel</dc:creator>
  <dc:description/>
  <dc:language>en-US</dc:language>
  <cp:lastModifiedBy>Daniel</cp:lastModifiedBy>
  <dcterms:modified xsi:type="dcterms:W3CDTF">2015-08-26T20:29:05Z</dcterms:modified>
  <cp:revision>16</cp:revision>
  <dc:subject/>
  <dc:title>Palliative Care und  Recht</dc:title>
</cp:coreProperties>
</file>